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75D-0653-4038-999A-0CE27A02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8E3D-656B-4312-930F-3E1B138C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this week’s learning by either crea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Fraye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other graphical representation (e.g., a Mind Map) to reflect their new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visit the Math Coaching graphic introduced on Tuesday morning (Session 2A) to discuss the remaining two parts of the cycle: implementation and debrie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individually reflect on their own learning over the course of the week and set a SMART goal for implementing one or two new strategies into their classroom program (set up check-in buddies and provide template for contact info if desi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CA8-115E-457C-ABEB-70B8BEC4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8CA-7D1E-4E0C-B11E-ED07980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52E-5E6D-4430-8420-5B68CFD6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8AE-4D90-4783-9540-1C313330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F0B-6390-4329-8CFC-6BAA8E1E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31E-0B77-4685-B986-80D6072F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A8AB-9105-400E-8F7E-1BA5FE8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566-143C-4459-B82E-7D939C9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6E20-564B-4975-A3B8-B7E81FD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1F85-B081-4BDA-B403-DD554DF8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541B-2AE6-47AC-AB87-8A89AB2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6DD-80D3-4C65-A10C-927160B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F48-9D6D-4863-92B3-868CA74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10E-977C-48D3-83AF-B29447B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4D2-9306-46BA-9745-F34B47A6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7F2-760A-4BF5-A93C-5C542CD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13CB-7276-4E48-9B85-96505A9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2B70-B0EC-476C-B434-0A168BD0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722-6CB9-42A8-8F3B-122944E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592-C954-43BB-A658-08BFEC2E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AEE-8F59-4E06-A510-B852F8C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8DB-3D9A-487E-AFCF-02C9B36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2A4-5D2E-44BB-BFC8-08F997C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CCF-2D4F-4CA3-95B6-39D0BEC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A0C-292F-4FB4-81FC-AB6E329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31C-6D3E-4D39-9D21-82B6130343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BA0A-EB6E-47C2-BA51-E26F0243EA3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Grades 7/8 Breakout Session 4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encouraged to share your observations as a collective throughout the carou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carousel, each person will be asked to record 1-5 words that describe the connections made during the carousel on the graffiti paper posted outside of Central H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Review and Reflec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view your Frayer Models for Proportional Reasoning from Monday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reate a graphical representation of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mind map, concept map, chart, etc.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ostcards - set SMART goal for you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Plenary Focu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: Open task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3000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rategies for opening up clos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aff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strategies for opening closed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prompts for scaffold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hree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cc33"/>
                </a:solidFill>
                <a:latin typeface="Arial"/>
              </a:rPr>
              <a:t>Mi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cc33"/>
                </a:solidFill>
                <a:latin typeface="Arial"/>
              </a:rPr>
              <a:t>review steps to open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pen closed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Arial"/>
              </a:rPr>
              <a:t>Consoli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visit Frayer model from Monday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flect on learning from sess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set an individual SMART goal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ich questions are closed question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3428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rt through questions you visited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questions that are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Process 3"/>
          <p:cNvSpPr/>
          <p:nvPr/>
        </p:nvSpPr>
        <p:spPr>
          <a:xfrm>
            <a:off x="357120" y="1214280"/>
            <a:ext cx="8501040" cy="521496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Marian’s Strategies for Opening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3000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ing a question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ing for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lacing a number with a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ing for a numb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e (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Good Questions From Dr. Sma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Process 3"/>
          <p:cNvSpPr/>
          <p:nvPr/>
        </p:nvSpPr>
        <p:spPr>
          <a:xfrm>
            <a:off x="357120" y="1357200"/>
            <a:ext cx="8501040" cy="507204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closed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airs, use Marian’s criteria to open questions from Monday’s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opened up tasks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ve two of the other pair's tasks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vide feedback on the tasks they solved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the opened task allow students at all levels of understanding to particip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the opened task allow for greater development of mathematical process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357120" y="785880"/>
            <a:ext cx="8501040" cy="564336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a number.  This is your GROUP #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morning you will report to your first breakout room at 8:30am (see schedul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4560" y="4567320"/>
            <a:ext cx="8245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will carousel to each breakout group to examine the artifacts and/or visual representations of lear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reakout group representative will be assigned the role of 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our gu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for their focused breakout room visit.  This is your opportunity to highlight key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9T19:18:52Z</dcterms:modified>
  <cp:revision>179</cp:revision>
  <dc:subject/>
  <dc:title>Slide 1</dc:title>
</cp:coreProperties>
</file>